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8852F-0BF6-47F2-8F8A-6FF2875961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35A3A-85E1-47F7-AD06-A904FA6236C8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4B398-5688-45F4-8682-21A2215F0708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D1496-491D-45B0-8067-BF1FF3C21ABC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22403-9A32-43F8-8F81-6F4BBD4533B7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A0C53-B5D6-49F3-8970-05B4D37EB36B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CABF8-F5BA-43FB-A327-53C4C784D5AE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1C308-7105-4F00-AAEB-10DDC303721A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35FB7-978C-48EC-BDA5-E5549AFDDF1E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751CC-5043-4388-8568-0DCC325976AC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466AB-345D-4BB9-9AF8-E3A4494BA97E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54A2C-6EF8-4D69-BEC0-B654B44BCC56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8C87F-83A7-4A59-920F-48ED3C85B3C2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EDBE7-F9A6-439C-8DD5-3F8E9DDEA497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A9A97-4134-4156-B92C-4C30DBC86B1A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F9210-1C80-4B32-AC36-DCF19AAD908F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DF476-5E46-4680-B685-0737A1727514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4E597-62B4-4754-8598-67A7D747DBC8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D465F-5663-4804-BDBE-60C28967247C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30D84-4823-4C07-AFEB-977F3294FE86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49B0D-F2FA-4D46-934E-C534E64E93B5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8E3D3-8DDC-476D-A857-12106384E007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D2224-8185-4B5C-9DD9-8E987FE57795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7ED9C-A161-46E0-AD8D-6EFF01CC0A97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4998E-89F1-4E23-9318-7928D04A872F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427F7-D68A-4631-AEDB-D9D076D61674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2AF47-6DA0-40AC-8C92-FEAB63487863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82A4-C8BB-4F8C-BB12-2B2812509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6F44-279D-4261-BB6E-DE55EF96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62B3-46D9-4330-BB40-396836604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7183-B47E-47BD-A1FF-29EFF0805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CE2FE-6D01-4F1E-8657-85379BF6D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8C966-9563-42B1-9304-C7F3FC2BE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9D0EF-FA39-48E6-9DDC-FFE544FD3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4D878-3D63-47C8-9630-A2F8139CD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91DD6-0734-4809-AD5A-D61B9FE07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28E25-F5D9-45A2-817B-098308209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E7AFA-B750-4654-8670-51D7FA7E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19D1-FBDE-44B0-98AB-AB8D5976A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594A9-A0C7-45D5-ADA5-364060BF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430C5-DC88-4739-B673-7A4769C0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863DC-3D23-48B1-9867-0C47B4BC5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FF42D-09BF-4879-A120-80D7DEBCC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6C339-6874-4F0E-B127-9B272B0A8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B2E5-18A0-49F8-8B2B-3AEE686B2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094D-D110-4FB3-A53A-DEDA95008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05A8-C14F-4096-9499-380CAE90F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9837-572C-4C98-A6F9-37AD54E8E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50F9-1CED-4A3B-B1E5-E48DC7CD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B0C3-0A3B-4B1C-B4F8-DF230CB1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2EA0-43FD-4624-BB4A-AF77071B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"/>
          <p:cNvPicPr/>
          <p:nvPr/>
        </p:nvPicPr>
        <p:blipFill>
          <a:blip r:embed="rId3"/>
          <a:stretch/>
        </p:blipFill>
        <p:spPr>
          <a:xfrm>
            <a:off x="1150920" y="1676520"/>
            <a:ext cx="6697800" cy="12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3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E35A1-832C-4181-961E-7F66902CCF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EEAEF-594C-487D-86E3-85CCAA9C30BC}" type="slidenum">
              <a:rPr b="0" lang="en-US" sz="1400" spc="-1" strike="noStrike">
                <a:solidFill>
                  <a:srgbClr val="5d220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520" y="17524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Empires of the Americas Review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523520" y="3352320"/>
            <a:ext cx="7162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More Inca achievement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Another Inca achievement was the developed a system of roads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17" name="Picture 5" descr="empi-incatrail-l"/>
          <p:cNvPicPr/>
          <p:nvPr/>
        </p:nvPicPr>
        <p:blipFill>
          <a:blip r:embed="rId1"/>
          <a:stretch/>
        </p:blipFill>
        <p:spPr>
          <a:xfrm>
            <a:off x="4648320" y="2274840"/>
            <a:ext cx="3809880" cy="35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Aztec Calendar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The Aztec developed a calendar so they knew when to perform religious ceremonies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20" name="Picture 5" descr="aztec"/>
          <p:cNvPicPr/>
          <p:nvPr/>
        </p:nvPicPr>
        <p:blipFill>
          <a:blip r:embed="rId1"/>
          <a:stretch/>
        </p:blipFill>
        <p:spPr>
          <a:xfrm>
            <a:off x="4648320" y="2127240"/>
            <a:ext cx="380988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Mayan mathematic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Mayan mathematics was based on the number 20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e system included the use of glyphs, or picture writing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lash and Burn Agricultur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Mayan farmers practiced slash-and-burn agriculture. They cut down and burned trees, then used the ash for fertilizer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Terrac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The Mayas also cut terraces into the sides of mountains to make farming easier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27" name="Picture 5" descr="AncientAmericaIncasTerraces"/>
          <p:cNvPicPr/>
          <p:nvPr/>
        </p:nvPicPr>
        <p:blipFill>
          <a:blip r:embed="rId1"/>
          <a:stretch/>
        </p:blipFill>
        <p:spPr>
          <a:xfrm>
            <a:off x="4648320" y="2608200"/>
            <a:ext cx="380988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Aztec capital city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e city the Aztecs built in the Valley of Mexico was called Tenochtitlan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hinampa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Aztecs living around Tenochtitlan need to develop the farming of chinampas because they built Tenochtitlan on a lake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32" name="Picture 5" descr="chinampa"/>
          <p:cNvPicPr/>
          <p:nvPr/>
        </p:nvPicPr>
        <p:blipFill>
          <a:blip r:embed="rId1"/>
          <a:stretch/>
        </p:blipFill>
        <p:spPr>
          <a:xfrm>
            <a:off x="4648320" y="2689200"/>
            <a:ext cx="380988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uzco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e capital of the Inca empire was called Cuzco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Inca communication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e Inca used runners as messengers so they could communicate over long distances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Inca religious belief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The Inca believed that their leaders were direct descendants of sun god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39" name="Picture 5" descr="est20"/>
          <p:cNvPicPr/>
          <p:nvPr/>
        </p:nvPicPr>
        <p:blipFill>
          <a:blip r:embed="rId1"/>
          <a:stretch/>
        </p:blipFill>
        <p:spPr>
          <a:xfrm>
            <a:off x="4897440" y="1981080"/>
            <a:ext cx="3309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Aztec and Inca similariti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Both the Aztec and Inca had complex religious ceremonie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Both were conquered by the Spanish with help from people they had conquered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e Aztecs were conquered by Corte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e Incas were conquered by Pizzaro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Maya population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e majority of the Maya people were peasant farmers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Mayan Achievemen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e Mayan made grade advancements in the science of astronomy (the study of the stars)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e Mayans also built pyramids, much like the Egyptians did. (So did the Inca)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Mayan religious practic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e Mayans believed that the Gods required sacrifices to keep them happy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Mayan ball gam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The Mayans had a ball game that resembles our game of soccer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Often at the end of the game the losers were sacrificed.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48" name="Picture 5" descr="mayanball"/>
          <p:cNvPicPr/>
          <p:nvPr/>
        </p:nvPicPr>
        <p:blipFill>
          <a:blip r:embed="rId1"/>
          <a:stretch/>
        </p:blipFill>
        <p:spPr>
          <a:xfrm>
            <a:off x="4648320" y="2584440"/>
            <a:ext cx="380988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5" descr="mayamap"/>
          <p:cNvPicPr/>
          <p:nvPr/>
        </p:nvPicPr>
        <p:blipFill>
          <a:blip r:embed="rId1"/>
          <a:stretch/>
        </p:blipFill>
        <p:spPr>
          <a:xfrm>
            <a:off x="3581280" y="380880"/>
            <a:ext cx="5362560" cy="57913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3200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Where were most of the May settlements located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6840" y="2133720"/>
            <a:ext cx="29718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Where is Macchu Piccu located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52" name="Picture 5" descr="incaempiremap"/>
          <p:cNvPicPr/>
          <p:nvPr/>
        </p:nvPicPr>
        <p:blipFill>
          <a:blip r:embed="rId1"/>
          <a:stretch/>
        </p:blipFill>
        <p:spPr>
          <a:xfrm>
            <a:off x="3848040" y="0"/>
            <a:ext cx="43894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3" descr="incachart"/>
          <p:cNvPicPr/>
          <p:nvPr/>
        </p:nvPicPr>
        <p:blipFill>
          <a:blip r:embed="rId1"/>
          <a:stretch/>
        </p:blipFill>
        <p:spPr>
          <a:xfrm>
            <a:off x="380880" y="914400"/>
            <a:ext cx="8534520" cy="43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Aztec King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The Aztec king that was conquered by Cortes was Montezuma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99" name="Picture 5" descr="jun30montezuma"/>
          <p:cNvPicPr/>
          <p:nvPr/>
        </p:nvPicPr>
        <p:blipFill>
          <a:blip r:embed="rId1"/>
          <a:stretch/>
        </p:blipFill>
        <p:spPr>
          <a:xfrm>
            <a:off x="4962600" y="1981080"/>
            <a:ext cx="3181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Inca King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The Inca king that was conquered by Pizzaro was Atahualpa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02" name="Picture 5" descr="atahualpa"/>
          <p:cNvPicPr/>
          <p:nvPr/>
        </p:nvPicPr>
        <p:blipFill>
          <a:blip r:embed="rId1"/>
          <a:stretch/>
        </p:blipFill>
        <p:spPr>
          <a:xfrm>
            <a:off x="4984920" y="1981080"/>
            <a:ext cx="3135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Mayan god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The Maya worshipped more than 160 gods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05" name="Picture 5" descr="mayan_glyphs"/>
          <p:cNvPicPr/>
          <p:nvPr/>
        </p:nvPicPr>
        <p:blipFill>
          <a:blip r:embed="rId1"/>
          <a:stretch/>
        </p:blipFill>
        <p:spPr>
          <a:xfrm>
            <a:off x="4267080" y="1828800"/>
            <a:ext cx="39402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Maya, Aztec, and Inca civilization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All three complex architectural structures like pyramids and temple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ey were polytheistic, believing in many gods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Where did the Inca come from?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09" name="Picture 4" descr="inca"/>
          <p:cNvPicPr/>
          <p:nvPr/>
        </p:nvPicPr>
        <p:blipFill>
          <a:blip r:embed="rId1"/>
          <a:stretch/>
        </p:blipFill>
        <p:spPr>
          <a:xfrm>
            <a:off x="2743200" y="1828800"/>
            <a:ext cx="36082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Where did the Aztec come from?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e valley of Mexico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Quipu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The accounting system of the Inca that involved tying knots in rope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14" name="Picture 5" descr="quipu2"/>
          <p:cNvPicPr/>
          <p:nvPr/>
        </p:nvPicPr>
        <p:blipFill>
          <a:blip r:embed="rId1"/>
          <a:stretch/>
        </p:blipFill>
        <p:spPr>
          <a:xfrm>
            <a:off x="4648320" y="2335320"/>
            <a:ext cx="380988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01:54:31Z</dcterms:created>
  <dc:creator>Jeff Kash</dc:creator>
  <dc:description/>
  <dc:language>en-US</dc:language>
  <cp:lastModifiedBy>Tim</cp:lastModifiedBy>
  <dcterms:modified xsi:type="dcterms:W3CDTF">2011-09-23T04:43:03Z</dcterms:modified>
  <cp:revision>11</cp:revision>
  <dc:subject/>
  <dc:title>Empires of the Americas Review</dc:title>
</cp:coreProperties>
</file>